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8CE1EF-4204-4866-B78B-E89078BAD5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C0798C-554D-4D62-93DD-047B7B8FC0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210C59-118B-46DF-A333-88B99132C6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7D0B2A-D725-4428-99FD-17B902954B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A0D960-F066-4BCD-BBE0-D129FB203C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6AA4FF-6891-4A12-B2EF-53D6D14144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3B3585-F99A-43D9-96D4-D8D297494B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8479D2-1381-4D2A-8198-31B26562A3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FF69D0-3D54-4411-837D-0035E349AD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28172E-222E-43C7-B0A4-7C4F4E906D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DA995E-E4AE-4B48-988D-1E253865B3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90DD11-571B-49A7-82FA-4FDFFE61FD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76376A-E3BB-4B94-BC9D-1FC2389D2F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6B2A2B-87DA-4147-A36D-9239F4F42FB8}" type="datetime3">
              <a:rPr b="0" lang="en-US" sz="1400" spc="-1" strike="noStrike">
                <a:solidFill>
                  <a:srgbClr val="ffffff"/>
                </a:solidFill>
                <a:latin typeface="Times New Roman"/>
              </a:rPr>
              <a:t>July 30,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730187-4F3D-48EC-8661-33134539EE4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0F767725-E1CF-4025-8A70-2F99EC84C23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75C2650C-0FD7-403C-A341-AAE57797D6B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E2BAA2C4-EDB9-4551-B3ED-C283BFC6F16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01E21B03-A291-4A69-AF85-C99A330B51C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BA25DFAD-B88C-4E87-BCE1-374762A11A2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40A2E9C5-5C4C-4B18-852A-C9F1193EE321}"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2EBC2BAF-4106-4CEC-82C4-F89324BAFC3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B4613794-CA37-4FCF-B634-A3E2EF34ACF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728DF613-3DAD-44A8-92F0-05FED15D82E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3DE623FE-2CFE-4F2D-B6E2-E19C3097D00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1EB76581-62B8-4C4D-B81D-35DEE3A6B41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8A0B9C32-287E-4E88-8D9D-290D9F879DE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FBF3BC7C-FA98-42A9-86A9-A0A384D100E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A9587947-CA08-457E-84E8-96997629A02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