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B194D-3256-4CE7-A0A4-266AEA8889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E15D8D-DC84-4837-84A8-CCECAA8253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F569A6-D6CA-4D8B-824E-B1CA5FE610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8CAAEB-A4BC-4A05-8B17-7B81304729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7FF801-91F6-44D6-9736-161CBB2148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643340-A580-4469-9ACD-3B11EE9613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70839C-C456-44DF-92EB-A4E0B17090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CEB0D0-8C00-47FF-A6CA-2EAAEBC930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CFD106-128B-4410-A998-52F1E62B5B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CED88D-C551-4AE8-B3B6-E046C56CEA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C88D83-00D9-4A43-B4EF-DA18B7EFBC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D49EAF-0402-4FD2-8C1C-BBD16EB8E0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C8C82A-BBF2-4838-8B1D-8E2BEA08BD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E1106-EB3F-4011-8D67-9EF916832A78}" type="datetime3">
              <a:rPr b="0" lang="en-US" sz="1400" spc="-1" strike="noStrike">
                <a:solidFill>
                  <a:srgbClr val="ffffff"/>
                </a:solidFill>
                <a:latin typeface="Times New Roman"/>
              </a:rPr>
              <a:t>July 28,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8BD5E-1437-44E0-A668-C0DB4526899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D86EA4FC-66B2-4034-B383-D44B42C70F2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C54CE3D1-2558-4191-9F1A-957AF0698D7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A6D53193-6FFC-465C-997A-70D9E1A55F4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C563BE77-F0BC-4863-8329-1CDF21A2019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BBE32CCA-A827-435C-AA0B-BDC1E7FFA4D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FA4F3BCF-2690-4BED-8D2D-C9FE2E00E45C}"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3D0AD8B8-A3F8-49F1-B555-2167C8AE9FA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031979A3-B011-4667-875C-5E9A6F53A86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24B233A0-DDAE-4CCF-8FD8-D32CB60C37C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38DE4DC4-D445-42E3-9001-7915CAB4D49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7BFB3516-6298-4C2E-8BE0-7EB8AB93AC8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CE4FA35B-A741-429B-A752-DF225F07414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1A895EE8-4DBB-41C3-B2A2-9FC55BB835A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A67DCAED-5988-4A4F-B697-88C10F3323A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