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493F76-F1EF-4819-B335-0B94FD69BD7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F1A9D7-6EFC-4756-8352-50F7EB7063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8D4A81-A0A2-4C3D-AC70-A26AEB47F9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9E1AE2-28F3-4898-A06D-8C736C850D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4C082B-EAE7-4175-A06C-B25926C19A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F93C40-7528-4720-865B-01F78CD275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C01932-45C7-4AF9-9912-0F8FCE8958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B4CA72-13C8-4ACC-AE75-E137E9ACE0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67334F-D6F6-48B0-89CA-CB40C3B860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D33023-FFA0-40B7-9B49-7C8B033175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938156-28FE-48A0-8771-7EAD78946B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7817A2-DAD1-46DC-9CDD-4B5D64E3A5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DEA337-30FE-4E26-B502-6B60138730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28EF86-AE27-4322-9883-33A587B376D2}" type="datetime3">
              <a:rPr b="0" lang="en-US" sz="1400" spc="-1" strike="noStrike">
                <a:solidFill>
                  <a:srgbClr val="ffffff"/>
                </a:solidFill>
                <a:latin typeface="Times New Roman"/>
              </a:rPr>
              <a:t>July 28,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E2D358-EE5A-4BCA-863D-2007CD4A673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2EBBA42E-2ED5-4603-B7C4-DE66450F133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5FB0E8BE-CEAF-44BD-8A8A-A32E1BA69EC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656AC8A5-D946-4BDD-B696-B28D291BE72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3603F44C-BA77-48BC-AD54-484C41CFDBA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18B51413-9B96-4994-8E1A-C12D53D0338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20B92037-DAA4-4EC0-8C7A-4F163C019706}"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121DBD2F-026E-42D7-9DD5-D584132BEFA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64199180-8C63-4EB3-B542-22D07E0BC3F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D4B0B362-2D3B-4EE9-B588-436B5F4D782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075F5F24-D5D4-48AB-AD0B-A2C574B094B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264C8934-3DA5-4C59-97CE-9B3EA1E7BB0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04A6CC12-E68D-4615-93E6-7B20D05D8E8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AC348849-E9B1-4787-AAFF-F68D9B06E57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CC141464-86FA-4179-9879-9B429CD3985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